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D726-1167-4E0C-A770-222599AFD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53ED-E2F2-4BCC-9FC4-FDFE2F9B1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40F0-F3AC-4714-BE15-B6D36596D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0755-563E-445D-B2EA-E40B76091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D738-B8E1-43E2-A2E9-4107CE625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035A-83FF-4874-B293-58EFF709E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BE0A-CDD8-4BAB-B040-D5BEF464B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471E-4B26-43AD-8A12-B2BCA6EC9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AC39-37B2-4632-9154-1090FA3D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F131-BA13-4E37-AF4B-3845472D0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ADE9-283C-479F-A78F-BA3163F8A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1349-7DF2-4DA2-9C0C-6535448E8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677C-A447-4C72-B61F-62AE3FDDC9F8}" type="slidenum">
              <a:rPr b="0" lang="en-CA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5905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2590560"/>
            <a:ext cx="5457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900" spc="-1" strike="noStrike">
                <a:solidFill>
                  <a:srgbClr val="ffffff"/>
                </a:solidFill>
                <a:latin typeface="Arial"/>
              </a:rPr>
              <a:t>Techniques d’entrevue efficaces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ffff"/>
                </a:solidFill>
                <a:latin typeface="Arial"/>
              </a:rPr>
              <a:t>Amélioration des processus opérationnel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 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Pourquoi est-il important d’utiliser la bonne technique d’entrevu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314172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iente les questions sur les bons suj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Met la personne à l’aise et la dispose à dire la vérit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ermet d’éviter les préjugé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ermet d’éviter les « symptômes » et de connaître les « causes premières 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ermet de découvrir les faits essenti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447920"/>
            <a:ext cx="8215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.  Mettre la personne à l’ai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242064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Pourquoi vous êtes là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Ce que vous fai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Ce que vous allez faire avec les résulta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Invitez la personne reçue en entrevue à revenir dans la salle de conférence pour lui poser des questions et voir son trav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 Types de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Question à réponse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Question d’approfondis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Question ferm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L’entonnoi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3068640"/>
            <a:ext cx="1871640" cy="2376360"/>
          </a:xfrm>
          <a:custGeom>
            <a:avLst/>
            <a:gdLst>
              <a:gd name="textAreaLeft" fmla="*/ 411480 w 1871640"/>
              <a:gd name="textAreaRight" fmla="*/ 1460160 w 1871640"/>
              <a:gd name="textAreaTop" fmla="*/ 522360 h 2376360"/>
              <a:gd name="textAreaBottom" fmla="*/ 185400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2400" y="3068640"/>
            <a:ext cx="497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 à réponse libre pour commencer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. ex. : « Décrivez comment… 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« Parlez-moi de…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0766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 d’approfondissement pour préciser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18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. ex. « Que voulez-vous dire par…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5013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 fermées pour confi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. ex. questions à répondre par « oui » ou « non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5661000"/>
            <a:ext cx="2087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068640"/>
            <a:ext cx="865080" cy="2376360"/>
          </a:xfrm>
          <a:prstGeom prst="downArrow">
            <a:avLst>
              <a:gd name="adj1" fmla="val 50000"/>
              <a:gd name="adj2" fmla="val 686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421000"/>
            <a:ext cx="20876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éné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.  Écou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Elle est d'une importance capita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N’interrompez pas la personne que vous recevez en entrev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Attendez que cette dernière ait terminé; ce n’est pas grave s’il y a des sile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e langage corporel correspond-il au langage verb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447920"/>
            <a:ext cx="7783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raitement des ré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Répétez pour montrer que vous avez compr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Demandez des précisions (au beso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Consignez l’in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i la réponse ne répond pas à votre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Montrez que vous avez compris et posez de nouveau la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épétez la question si la réponse obtenue n’est pas suffisamment préc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Demandez à obtenir des exemples ou une démons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6.  Suiv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63664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ésumez ce que vous avez enten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Vérifiez que vous avez compr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Décrivez les prochaines étap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Offrez la chance d’assurer un suivi ou de visiter la salle de confér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emerciez la personne reçue en entrev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47:25Z</dcterms:created>
  <dc:creator>Craig Szelestowski</dc:creator>
  <dc:description/>
  <dc:language>en-US</dc:language>
  <cp:lastModifiedBy>Mark Jarvis</cp:lastModifiedBy>
  <dcterms:modified xsi:type="dcterms:W3CDTF">2013-05-31T15:36:42Z</dcterms:modified>
  <cp:revision>15</cp:revision>
  <dc:subject/>
  <dc:title>Effective Interviewing Techniques</dc:title>
</cp:coreProperties>
</file>